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8C2-DDD1-487C-B510-ED8D7640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45E-09ED-46C5-938A-A2C3F5EC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F1BC-E5C2-4861-A5B8-07681B92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4B0-204D-4F9A-9C98-5983EE6A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2CA-01E6-4A02-940C-A939B7E5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E22-4662-4F14-9B6D-9A0F0A3A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1F4-F0A6-40E7-ADB4-14F3DE2B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A60E-5729-4D2C-90A7-7C7E1000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996C-FDB0-41E5-A9F9-7F96072A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D25-09A3-4908-A012-819EB74A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D78-6B1D-4D2B-B4C0-61D76604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048-60AE-49D1-B6BD-1EFEBADE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3164-836F-4122-9DD8-1B21638F5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36360" y="-27000"/>
            <a:ext cx="9070920" cy="81378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Аз съм чул, че ме люби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Христос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че към мен милости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ой ще е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ой наистина ли тук дойд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а спаси мен с пречуд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любов, любов,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а спаси мен с пречудна люб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84360" y="333360"/>
            <a:ext cx="658836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Христос от небето слезна да умре с кръстна смър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еб и мен да спас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-512280"/>
            <a:ext cx="896472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2. Аз съм чул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че кръвта Си прол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че на кръста кръвта Си прол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Но наистина вярно ли 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че за мен Той кръвта С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       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проля, прол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че за мен Той кръвта Си прол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84360" y="333360"/>
            <a:ext cx="658836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Христос от небето слезна да умре с кръстна смър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еб и мен да спас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5580000" cy="7044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0" y="-2089080"/>
            <a:ext cx="5545080" cy="1106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3. Аз съм чул и за д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                        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в небес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що за Своите приготвил</a:t>
            </a: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                                 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                           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е Т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Но дали в то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           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славен покой има място, готово за мен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                          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за мен, има място, гото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                              </a:t>
            </a:r>
            <a:r>
              <a:rPr b="1" lang="bg-BG" sz="4000" spc="-1" strike="noStrike">
                <a:solidFill>
                  <a:srgbClr val="ffff00"/>
                </a:solidFill>
                <a:latin typeface="Monotype Corsiva"/>
              </a:rPr>
              <a:t>за ме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84360" y="333360"/>
            <a:ext cx="658836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Христос от небето слезна да умре с кръстна смър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еб и мен да спас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-2988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4. О, Исусе, Ти отв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 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ми дай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воят Дух да ми каже сег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 ми стане известно тов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че Спасител Си Ти и за мен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                                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за мен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че Спасител Си Ти и за мен!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84360" y="333360"/>
            <a:ext cx="658836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за мен дойд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а, Христос от небето слезна да умре с кръстна смър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еб и мен да спас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8:41:39Z</dcterms:created>
  <dc:creator>TrifonTrifonow</dc:creator>
  <dc:description/>
  <dc:language>en-US</dc:language>
  <cp:lastModifiedBy>TrifonTrifonow</cp:lastModifiedBy>
  <dcterms:modified xsi:type="dcterms:W3CDTF">2005-11-22T08:57:14Z</dcterms:modified>
  <cp:revision>9</cp:revision>
  <dc:subject/>
  <dc:title>Slide 1</dc:title>
</cp:coreProperties>
</file>